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1E94-13C3-403E-94BC-1F587A4D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8A8A-D165-4B46-A46E-3769650F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764F7-91C2-48D2-ACD8-D73EBD9E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9AAE3-7688-45A1-84D2-43971BC1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C5881-D2E7-4163-8C06-C4CDC9CD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3088C-9AEA-4BCE-BD23-E15B845F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7641C-4872-4814-B65D-1E052C2B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2ADB5-10C9-400D-BB06-AB155FF7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78E6E-EBB4-4E5E-A37A-2A9E326D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FC040-FFF2-49BA-8A4E-E7290A44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58589-CFED-4641-A680-221C55B6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B38EB-938F-4BF8-BB6A-C956C842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71AF-E8A8-4D86-8479-FEA4E8AF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55E18-71F2-454E-908F-28CFD64E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45231-2CA4-467E-AF33-70974638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894D5-4169-4347-8406-BD8DA23B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E2535-B1F5-4A75-AD3D-108ED180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A85D4-521C-4FDD-ADC0-3C4F837E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6A0AC-E443-448D-A315-FFC1D184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E8402-5CBE-4F34-8B95-1FBDAE17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D314A-FAD7-4C3B-AD47-9897135A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73AC1-533E-480D-8B07-8CEDB540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DF87F-77B9-4F97-A76A-871983B4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4FA-EF2E-48D9-A852-E7607FE6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2D67A-BEE7-48DB-9662-52AE2DDD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9F195-854D-4FFD-84A5-293B9B52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C2EF9-2C17-4635-9620-9AE98BC9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1DB55-E8DB-4D71-A6DA-354D2DB8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10212-3567-4167-8E93-12B42183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EE467-5DF6-4A06-B099-B57BF8D2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26533-A528-4556-9B1B-57A8A15B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4BD15-B3DE-4C8F-B404-0D83D69A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40A06-C4F8-427B-9548-3D67794A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84762-F401-4252-BE00-CABF1C76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F11D-D58D-4964-B107-FBD96E68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A67CA-4660-4984-8075-8B800C84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36C6B-AE83-4682-8140-6C9DD40A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2C3BE-A28B-44F9-A715-7ED4B769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DDDAE-DD74-40A4-9AE8-308D81C0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3915B-7208-4252-9AEA-255CF8D1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2C3B9-0348-4ECE-B920-E1E1DB46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1264B-B1F8-4D86-BCD4-555A2CF7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F91A2-AEDB-4F9C-9D00-642745DF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D7DF7-9D9E-4571-AFC6-073BA0A2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75FBA-28C4-4DA2-8A2B-99983283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C98F-D66B-4182-BA59-94AABE21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918C9-5D84-443E-83DD-2E6405A4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AF2A1-5A33-40EE-864D-63B200B1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BED84-59A2-4D4F-BC93-15130D99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07E8C-601B-4E45-80D2-3BC677F3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F28B4-0175-487F-B2C0-68C0223A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6673F-5A21-48A1-8FEE-0BA0297F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EC9E6-17A2-4981-A48D-232D20DB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9C253-C121-409B-BFAB-64D2925E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7B107F-2718-44F9-A915-0AF2CF64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F482D-3562-4FBC-A90D-EA328801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92BB-BC36-4FB3-AC00-04D380AB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4DF63D-6EC8-43DD-80CB-5003EB9D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46AFF-D9BF-4164-950B-7B1E8E25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46933-C25C-419A-B767-9B1BA178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176C2-440A-4843-A38E-39EDB255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7FA7B-BC0A-47C4-829D-9D53F37B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9DCE5-C585-463B-91CE-F398B1F7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29F5A-BB2F-429E-A704-CD621B8B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24BB9A-8685-4116-9FE4-24EAB87A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7A3EDE-B564-460B-9E13-E90ADBF0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0A3858-FCB3-4CC9-A950-4C89408B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7AC4-693D-4A05-86D9-77DB404A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0F71C7-968E-4350-A3B0-4241C1FC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F581E9-E574-4370-B9B4-2B895DA4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C4583E-A4B7-47E9-AF05-B8BDDFE6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4E7815-82B8-4C10-B3D8-E6512C3F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DF03D1-9602-48DD-B5F9-931E1948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812253-5157-4673-AB78-48A01E48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202D26-28C4-46FC-A648-E6E8E818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825D89-9921-4830-BD4B-DFE3DADA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7B9BBE-2F33-4E5D-84AA-C663A5B4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ECFC6A-21D3-4A01-9491-6567406F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3902-0EC8-484F-A97A-3CFA7A91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8BA5FF-68D5-4788-BAD9-2EAFE085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9F4842-5BA3-4C7B-B7B2-0EE29EA2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EDCE5D-763A-4D52-A710-B4AB2048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6A5A32-EC0C-4F3D-B3A0-20A006F8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AA97AB-A275-4AA0-BEAA-FFC56915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5FE8EE-BEB8-42EB-BBAA-C874002E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CC0A26-E6C4-481F-8D41-745B4F67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1C58D3-9FF4-43FB-AA2B-036468A2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64DDA2-90AD-42C9-BC1A-A8ACDD89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4D2B39-914C-4431-9026-A444E6E6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019F-EF90-4AA5-BF77-BA0B5A22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2E9366-CA41-4F3F-966F-990EF21C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58F1BE-2AB5-418D-AA83-51955E90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78FACF-BD05-4252-A3D1-0746A7F4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D12B0B-56E9-45B2-8A47-6C8EA14A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10787D-2F3E-4124-9152-43A36E2C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BD0646-9775-4A79-AD91-3CEADD28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635D00-2A1E-4C94-AB68-1706D8A1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BE7C2A-899A-41BA-BF67-81A0AB8A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4EACC4-12E8-4D1F-82B3-DC62D667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5BB1E0-5263-4FAB-A687-F70DFD5F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CEF2-8DF3-4EA4-8E77-8E641587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802832-FF44-4AC4-82DB-0E86C83D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6C0EF0-F85A-4177-9419-E627E794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AD9CE7-F69A-49D5-A3AA-BF212740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7D8-95AD-4672-8125-933ACB0C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74D4-65C2-44CC-8364-81996085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3657-3011-448A-B29A-33963576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2F4E-FC5A-4337-A326-BE2FD280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2CC9-3DB8-48EF-B6DD-A821A0A3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8275-7167-4007-A9F7-87388F26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EABFF-2353-4C81-8FFF-90C2E181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EADF3-A700-4317-A2C4-32607C1B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74EFE-6181-4554-8B2F-F531213B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28A97-9D4B-4D31-BB59-B518B842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2D595-0DD4-40EC-B972-A9C08BCA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37C-8CD5-49BB-99FC-75ED351E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54B4E-0490-49F6-9F70-D0ED18B0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F29AC-E429-4564-B107-0576EB67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5F9BC-BEE3-4014-8D98-FFF912CA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2AAD6-E4EB-4447-9F3B-DF4092CD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61558-EC8C-4306-81A8-8BCA051B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458FE-51E3-495A-8FD3-67DC5848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68139-3A2A-4554-AB6B-9FB2574D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3A895-E0A4-4502-98A1-3FA76EF0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CA88E-5D7B-459F-ACEA-191A646E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9B679-B265-484E-805F-A8A02302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0D72-2F80-4B4D-A519-B8CCEAB8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446AE-BF31-4C22-A70D-D219D50C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FE6EB-E4E2-4C0B-81D0-2E7F1556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1ECCC-DC07-4515-BE9D-B1101260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3E651-55DA-44BB-9B69-98D13A38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8B982-1B27-4EC0-8927-1BE9501D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7FB8F-46BE-4508-8E81-A5E955DE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703C5-A6CF-4F2F-AF25-1AF75EB3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8585B-0E4B-4A5A-BE13-E97F0FA6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6CA46-6C99-4C80-816F-D489DBA5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501AA-04E9-484F-9B84-43D25334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B6EA-2BA9-4021-A4A1-5C0D92B6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407DD-D60C-49E3-A36E-159240CB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53DA5-4834-4BA2-AF1A-DD1AF7FD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BB0A7-DE05-4860-9E46-3F3349F5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2091C-55E9-4D68-85F1-D9B2A8F7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72CC2-2447-4448-A4F0-D96A9CD2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DBB28-9155-4483-AF66-8174D77F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74862-E520-4336-B4E3-55FE329B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67FEB-1227-4977-B8C6-6C5B2F7B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EDDA7-454F-4D1C-986D-0F67CB05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B967A-C9BD-488B-B576-CD74C546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401-77FD-499B-9A26-0A523BB9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0ABE0-882A-47BC-9650-F834BD77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60C0F7-1BD6-4A8E-B5B2-80AECD22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C9AB6-CEDB-4DCB-B630-C9EA4ED5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6909C1-73FB-45E9-B3E8-871F555F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9D51D-DE57-4289-8409-A5449A25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BAA19-24EE-449A-A5B3-3D33F2D0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C2B79F-8F74-4317-93D8-DA68592E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B75B6A-8AEF-41A7-AB19-544AD354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79E451-6E43-4B61-BBF7-46117229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08532D-8404-4BB8-8254-9A20C9A0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93F-0327-4BB3-9DD2-1C823419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274B4D-316E-4F80-8D87-77960049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C9AC2A-6B27-4726-A520-28BBFC47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6C6D08-383C-4C2F-9E89-47B86DFB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FDC16A-E2B8-43D2-B12C-BFA2B5E2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9B6B5F-B3A6-4BE5-B5C1-5855C440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F2534-6176-4D38-BD8B-32863537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807F47-054D-4E56-92BF-7C6C2F9A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F4E43F-B362-4E29-85FA-DC6FF37A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4D4EED-D139-403E-8D2D-8832BEF1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6F898C-9A63-4A4D-808F-8C764395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830C-7F98-4BEF-AB23-CBABCC5D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FC2454-3DF2-4A85-8281-AB80A87A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54C04C-76C5-4CFD-ABB3-0717AB15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46F6DC-1E4F-45A7-A12C-713BAB70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62D764-3840-4147-8E3E-5B6834E6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AA21CC-9C3F-4D82-8CAF-1E494895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9E51A-6469-46CC-9130-3B8F18DB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18AE8-5A8C-4B16-8B33-63078424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099C4-5AC8-4A2C-AD01-FEAA05E8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56B9C-4819-4202-8C20-D0F8C07C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BDF45-182F-4FD8-A586-7767B742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8122-CBD9-4B19-8A43-0BE33BAD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0F393-6F68-4FF8-9372-23AE00FD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089B3-27DF-4C13-85C2-043FF1EA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1F78D-42B9-4C04-B4D3-37C890EF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89438-AEBD-4A19-8B35-6F8A6508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9CFCE-241A-438E-AE50-96DB05A6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872D5-9251-4DC5-A17B-87B224BC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BC98E-8DF5-4CB8-B3CC-887E8423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9B1C6-C344-4069-BE0A-2B6631A9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54B2D-310A-49AF-9503-DA8DA5EA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BE6D4-F0D1-4C70-994C-D0674F95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D2BC-C408-47E2-8F5F-49376916EE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0D9C-205F-4542-9A65-F58F5F3FC09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8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9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9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49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3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4CA5-6786-45BF-B370-17866F7980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9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E0B3-8E92-41F8-AAB4-BB15E09B79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3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3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3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7DAB-D9F3-49E8-AD3C-1F3FE4F80B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dt" idx="4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4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sldNum" idx="4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C949-CC20-4472-8BD9-4DD4C9857A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738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9486-D553-4040-B687-F56542036CC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785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91" name="PlaceHolder 1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2B98-6BC0-44A7-B409-7804AF9E6C8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586F-2EAB-4BDD-ABEF-1494E10220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0605-27D3-448C-BE99-3CE01365237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C925-C000-4D8A-BA43-953192BF464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868C-20E2-4AF2-A2F5-C36268CCCE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8736-FDE1-45FB-892D-289E12E37F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6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E189-D6B8-4CB5-8EC4-24F2E5AEAE43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2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95CB-C5DC-4151-B04C-DCA66F6E8654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F9AE-1838-4F12-92DF-E2B176D24CC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2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826920" y="333360"/>
            <a:ext cx="777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c5900"/>
                </a:solidFill>
                <a:latin typeface="华文彩云"/>
                <a:ea typeface="华文彩云"/>
              </a:rPr>
              <a:t>Welcome to join us!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3405240" cy="422100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679320" y="0"/>
            <a:ext cx="3275280" cy="429264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1116000" y="4797360"/>
            <a:ext cx="63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9640" y="4292640"/>
            <a:ext cx="835344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ahoma"/>
              </a:rPr>
              <a:t>198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ahoma"/>
              </a:rPr>
              <a:t>A young boy called Elliott who made friends with a creature from outer space and helped him find a way back home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392720" cy="360036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5219640" y="105264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427640" y="692280"/>
            <a:ext cx="424800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Jurassic  Park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1993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A park where a rich man keeps dinosaurs, some of whom, the  meat-eating ones, hunted children when hit by a stor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916360" cy="439236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2"/>
          <a:stretch/>
        </p:blipFill>
        <p:spPr>
          <a:xfrm>
            <a:off x="3564000" y="333360"/>
            <a:ext cx="4968720" cy="33066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3"/>
          <a:stretch/>
        </p:blipFill>
        <p:spPr>
          <a:xfrm>
            <a:off x="3492360" y="3789360"/>
            <a:ext cx="5040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1993      Schindler’s Lis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1998      Saving Private Rya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The cruelty of w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Love and peace will win ov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ctiviti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388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o is h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do you think of hi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ecret of his succ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4649760" y="1847880"/>
            <a:ext cx="403704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500" autoRev="1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3" dur="500" autoRev="1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4" dur="500" autoRev="1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9144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ven Spielberg, th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ous A______ director, was born in 1946. When still a young boy, he started m_____ short films. At the age of 12, he made his first real films, using actors instead of toys. He wrote the s____ for the film himself. When he was 13, he won a p____ for a short film. He made a film called “Firelight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______ why he didn’t realize his dream to go to the Academy was that he did badly in his studies. After studying English, he got a job at a film studio where he w____ on a short film which won him a job as the youngest d______ in the world. Then his c_____ took off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ven Spielberg, th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ou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merica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rector, was born in 1946. When still a young boy, he starte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mak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ort films. At the age of 12, he made his first real films, using actors instead of toys. He wrote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crip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the film himself. When he was 13, he won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priz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a short film. He made a film called “Firelight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______ why he didn’t realize his dream to go to the Academy was that he did badly in his studies. After studying English, he got a job at a film studio where he w____ on a short film which won him a job as the youngest d______ in the world. Then his c_____ took off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ven Spielberg, th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ous </a:t>
            </a:r>
            <a:r>
              <a:rPr b="0" lang="en-US" sz="2800" spc="-1" strike="noStrike" u="sng">
                <a:solidFill>
                  <a:srgbClr val="ffb800"/>
                </a:solidFill>
                <a:uFillTx/>
                <a:latin typeface="Comic Sans MS"/>
              </a:rPr>
              <a:t>Americ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rector, was born in 1946. When still a young boy, he starte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mak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ort films. At the age of 12, he made his first real films, using actors instead of toys. He wrote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crip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the film himself. When he was 13, he won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priz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a short film. He made a film called “Firelight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reas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y he didn’t realize his dream to go to the Academy was that he did badly in his studies. After studying English, he got a job at a film studio where 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ork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a short film which won him a job as the youngest </a:t>
            </a:r>
            <a:r>
              <a:rPr b="0" lang="en-US" sz="2800" spc="-1" strike="noStrike" u="sng">
                <a:solidFill>
                  <a:srgbClr val="ffb800"/>
                </a:solidFill>
                <a:uFillTx/>
                <a:latin typeface="Comic Sans MS"/>
              </a:rPr>
              <a:t>direc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the world. Then h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care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ok off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aw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a real b________. Many people who saw the film were afraid to swim in the sea when they remembered the s______ in which people were eaten by the shark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s about a young boy called Elliott helping a small c____ from o____ space to find his way back home. The most exciting in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urassic park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when the children are h_____ by meat-eating dinosaurs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Schindle’s lis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are about the c_____ of war over which love and peace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teven Spielberg are h______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uccessful. And he o____ his success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nd happiness to his fam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388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aw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a rea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blockbus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Many people who saw the film were afraid to swim in the sea when they remembered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scen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n which people were eaten by the shark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s about a young boy called Elliott helping a smal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eatur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ou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space to find his way back home. The most exciting in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urassic park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when the children ar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hunted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by meat-eating dinosaurs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Schindle’s lis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are about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uelty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of war over which love and peace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teven Spielberg are h______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uccessful. And he o____ his success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nd happiness to his fam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201080" cy="568800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1476360" y="692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happened before this scene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476360" y="544500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ill happen after this scene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680" fill="hold"/>
                                        <p:tgtEl>
                                          <p:spTgt spid="8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3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3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388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aw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a rea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blockbus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Many people who saw the film were afraid to swim in the sea when they remembered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scen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n which people were eaten by the shark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s about a young boy called Elliott helping a smal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eatur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ou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space to find his way back home. The most exciting in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urassic park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when the children ar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hunted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by meat-eating dinosaurs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Schindle’s lis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are about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uelty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of war over which love and peace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teven Spielberg is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highly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uccessful. And 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owe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his success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nd happiness to his fam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was Spielberg’s dream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have you learnt from reading about Spielber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ctiviti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indefinite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406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Diligence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Little chops can finally fell a great tre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William Shakespea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Final success often comes in the last five minutes.                 -------Isaac Newt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 difference between gifts and diligence cannot be told. It will remain unknown forever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-Beethove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y success does not lie in natural gift but in faithful devotion and practice.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Mei Lanfa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perseverance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secret of success is constancy of purpos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-----Chapli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ithout perseverance nobody can succeed.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-----  Isaac Newt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 person should have a strong will, or he will achieve nothing.                 ------Madam Curi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ife is like an ocean: Only the strong-willed can reach the other shore.        ------Karl Marx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uccess is the combination of hope and struggle.                             ------English proverb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You are a reporter from CCTV. You are  going to have an interview with Steven Spielberg. Make a dialogue with hi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You are going to invite Steven Spielberg to your chatroom. Have a dialogue with hi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ay something about a dir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care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ey to his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/>
          </p:nvPr>
        </p:nvSpPr>
        <p:spPr>
          <a:xfrm>
            <a:off x="179280" y="2157480"/>
            <a:ext cx="864072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uppose you are going to be a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ilm director. Say something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bout your future fil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 txBox="1"/>
          <p:nvPr/>
        </p:nvSpPr>
        <p:spPr>
          <a:xfrm rot="388200">
            <a:off x="-1765440" y="476280"/>
            <a:ext cx="9685440" cy="560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mercialScript BT"/>
              </a:rPr>
              <a:t>Thanks for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mercialScript BT"/>
              <a:ea typeface="CommercialScript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mercialScript BT"/>
              </a:rPr>
              <a:t>        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mercialScript BT"/>
              </a:rPr>
              <a:t>joining us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mercialScript BT"/>
              <a:ea typeface="CommercialScript BT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1763640" y="53737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ahoma"/>
              </a:rPr>
              <a:t>武进区湟里高级中学高一备课组   蒋秋霞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80283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0" y="189000"/>
            <a:ext cx="85694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 </a:t>
            </a:r>
            <a:r>
              <a:rPr b="1" lang="en-US" sz="40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Steven Spielberg</a:t>
            </a:r>
            <a:endParaRPr b="1" lang="en-US" sz="4000" spc="1" strike="noStrike">
              <a:ln w="12600">
                <a:solidFill>
                  <a:srgbClr val="00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2219400" cy="295272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5292720" y="3213000"/>
            <a:ext cx="2128680" cy="293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0" y="1844280"/>
            <a:ext cx="914400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is childhood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is youth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Several of his successful film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secret of his succes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9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4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born in American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5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Made his first real film using real 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5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Won a prize for a short fil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6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firelight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8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couldn’t he go to the Academy as a young m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id he study the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job did he ge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ich won him the youngest director in the worl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is yout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755280" y="1628280"/>
            <a:ext cx="67690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ame some of his most successful film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uccessful fil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63118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30800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9" dur="1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ffcc"/>
                </a:solidFill>
                <a:latin typeface="Tahoma"/>
              </a:rPr>
              <a:t>Jaws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1975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A real blockbust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A white shark attack swimmers who were spending their holidays in a village by the se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10:12:39Z</dcterms:created>
  <dc:creator> </dc:creator>
  <dc:description/>
  <dc:language>en-US</dc:language>
  <cp:lastModifiedBy> </cp:lastModifiedBy>
  <dcterms:modified xsi:type="dcterms:W3CDTF">2003-10-14T02:35:08Z</dcterms:modified>
  <cp:revision>25</cp:revision>
  <dc:subject/>
  <dc:title>幻灯片 1</dc:title>
</cp:coreProperties>
</file>